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16.wmf" ContentType="image/x-wmf"/>
  <Override PartName="/ppt/media/image14.jpeg" ContentType="image/jpeg"/>
  <Override PartName="/ppt/media/image5.gif" ContentType="image/gif"/>
  <Override PartName="/ppt/media/image17.wmf" ContentType="image/x-wmf"/>
  <Override PartName="/ppt/media/image6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268-0022-4709-B8D3-ED5204AC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AF5-A6E2-4001-8DE7-0B0C89CB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BF1-2DF6-4ED2-ABB7-90C8B10C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9F8-9B3C-41E5-8922-F2271735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7905-D486-4294-83A6-51B64633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AFB5-FC43-4A4A-95EF-C0FE938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02CF-10E8-4237-AF3D-F0076533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074-504F-41BB-8EB3-DFB953DD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BC24-398D-4407-9303-69DC275E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9FBE-CA2B-4832-90AB-404B15D6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CE67-D4BF-46F9-87DB-BB69B2F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B13-4669-4111-910A-30DB7976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B1AD-4276-4A1B-9C2E-CF2D2FC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0B51-F4E9-44A2-AADE-0C0AEA5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6426-6B43-4D46-845A-D96C05EE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FF31-EEC3-4F5C-935E-D6539D75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377F-4B5F-41FE-8ECF-37B8C8C5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6EE-EB58-48DD-A33C-ECE35625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221-6E38-4E7F-9DA6-8257E282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C3B-9B72-4D78-A295-34BE40B5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97D-6637-4035-ADD8-4F8A6D6D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E52-9C1E-4E9B-B85B-08C7BFF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CF1-38DC-48F3-8F4D-67706B8C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15A-F808-4008-A863-E3177AB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CBF-3A30-4F80-ACD2-64A09B37F09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EA2-10E4-48E2-B44E-B4CF04A69B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12C-1683-4C40-8E15-1EE49E0A474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BA5-88BE-4834-A3F5-2FDDA7890C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hyperlink" Target="http://jhh/" TargetMode="Externa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" y="1066320"/>
            <a:ext cx="9066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втосалон </a:t>
            </a:r>
            <a:br>
              <a:rPr sz="4800"/>
            </a:br>
            <a:r>
              <a:rPr b="0" lang="ru-RU" sz="6600" spc="-1" strike="noStrike">
                <a:solidFill>
                  <a:srgbClr val="00ffff"/>
                </a:solidFill>
                <a:latin typeface="Arial"/>
              </a:rPr>
              <a:t>«Белые ночи 2002»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Автосалон пройдет в первых числах мая. В ЛенЭксп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imgy39054OldsmobileO4" descr=""/>
          <p:cNvPicPr/>
          <p:nvPr/>
        </p:nvPicPr>
        <p:blipFill>
          <a:blip r:embed="rId1"/>
          <a:stretch/>
        </p:blipFill>
        <p:spPr>
          <a:xfrm>
            <a:off x="3962520" y="3429000"/>
            <a:ext cx="4876560" cy="2525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91" name="H2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81280" cy="2268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2133720" y="464832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3794"/>
                </a:moveTo>
                <a:lnTo>
                  <a:pt x="19245" y="10800"/>
                </a:lnTo>
                <a:lnTo>
                  <a:pt x="523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304920" y="464832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12238" y="3837"/>
                </a:moveTo>
                <a:lnTo>
                  <a:pt x="14815" y="6448"/>
                </a:ln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lnTo>
                  <a:pt x="19201" y="10800"/>
                </a:lnTo>
                <a:lnTo>
                  <a:pt x="17548" y="10800"/>
                </a:lnTo>
                <a:lnTo>
                  <a:pt x="17548" y="17989"/>
                </a:lnTo>
                <a:lnTo>
                  <a:pt x="6929" y="17989"/>
                </a:lnTo>
                <a:lnTo>
                  <a:pt x="6929" y="10800"/>
                </a:lnTo>
                <a:lnTo>
                  <a:pt x="5275" y="10800"/>
                </a:lnTo>
                <a:close/>
              </a:path>
              <a:path fill="darkenLess" w="24477" h="21600">
                <a:moveTo>
                  <a:pt x="14815" y="6448"/>
                </a:move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close/>
              </a:path>
              <a:path fill="darkenLess" w="24477" h="21600">
                <a:moveTo>
                  <a:pt x="11316" y="14299"/>
                </a:moveTo>
                <a:lnTo>
                  <a:pt x="13161" y="14299"/>
                </a:lnTo>
                <a:lnTo>
                  <a:pt x="13161" y="17989"/>
                </a:lnTo>
                <a:lnTo>
                  <a:pt x="17548" y="17989"/>
                </a:lnTo>
                <a:lnTo>
                  <a:pt x="17548" y="10800"/>
                </a:lnTo>
                <a:lnTo>
                  <a:pt x="6929" y="10800"/>
                </a:lnTo>
                <a:lnTo>
                  <a:pt x="6929" y="17989"/>
                </a:lnTo>
                <a:lnTo>
                  <a:pt x="11316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114800" y="1905120"/>
          <a:ext cx="4911840" cy="1218960"/>
        </p:xfrm>
        <a:graphic>
          <a:graphicData uri="http://schemas.openxmlformats.org/drawingml/2006/table">
            <a:tbl>
              <a:tblPr/>
              <a:tblGrid>
                <a:gridCol w="3124080"/>
                <a:gridCol w="1787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Билет взросл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.0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Билет льготн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.0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втомобильные фирмы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3733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берите раздел каждой фирмы и нажмите кнопку, для перех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000" y="1081080"/>
          <a:ext cx="903456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081080"/>
                    <a:ext cx="903456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" y="4724280"/>
            <a:ext cx="1905120" cy="60984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67451" h="21600">
                <a:moveTo>
                  <a:pt x="0" y="0"/>
                </a:moveTo>
                <a:lnTo>
                  <a:pt x="67451" y="0"/>
                </a:lnTo>
                <a:lnTo>
                  <a:pt x="67451" y="21600"/>
                </a:lnTo>
                <a:lnTo>
                  <a:pt x="0" y="21600"/>
                </a:lnTo>
                <a:close/>
              </a:path>
              <a:path fill="lightenLess" w="67451" h="21600">
                <a:moveTo>
                  <a:pt x="0" y="0"/>
                </a:moveTo>
                <a:lnTo>
                  <a:pt x="67451" y="0"/>
                </a:lnTo>
                <a:lnTo>
                  <a:pt x="66051" y="1400"/>
                </a:lnTo>
                <a:lnTo>
                  <a:pt x="1400" y="1400"/>
                </a:lnTo>
                <a:close/>
              </a:path>
              <a:path fill="darken" w="67451" h="21600">
                <a:moveTo>
                  <a:pt x="67451" y="0"/>
                </a:moveTo>
                <a:lnTo>
                  <a:pt x="67451" y="21600"/>
                </a:lnTo>
                <a:lnTo>
                  <a:pt x="66051" y="20200"/>
                </a:lnTo>
                <a:lnTo>
                  <a:pt x="66051" y="1400"/>
                </a:lnTo>
                <a:close/>
              </a:path>
              <a:path fill="darkenLess" w="67451" h="21600">
                <a:moveTo>
                  <a:pt x="67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51" y="20200"/>
                </a:lnTo>
                <a:close/>
              </a:path>
              <a:path fill="lighten" w="67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51" h="21600">
                <a:moveTo>
                  <a:pt x="26719" y="3794"/>
                </a:moveTo>
                <a:lnTo>
                  <a:pt x="40732" y="10800"/>
                </a:lnTo>
                <a:lnTo>
                  <a:pt x="2671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4724280"/>
            <a:ext cx="1828800" cy="60984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49" h="21600">
                <a:moveTo>
                  <a:pt x="25368" y="3794"/>
                </a:moveTo>
                <a:lnTo>
                  <a:pt x="39381" y="10800"/>
                </a:lnTo>
                <a:lnTo>
                  <a:pt x="25368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724280"/>
            <a:ext cx="1905120" cy="60984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67451" h="21600">
                <a:moveTo>
                  <a:pt x="0" y="0"/>
                </a:moveTo>
                <a:lnTo>
                  <a:pt x="67451" y="0"/>
                </a:lnTo>
                <a:lnTo>
                  <a:pt x="67451" y="21600"/>
                </a:lnTo>
                <a:lnTo>
                  <a:pt x="0" y="21600"/>
                </a:lnTo>
                <a:close/>
              </a:path>
              <a:path fill="lightenLess" w="67451" h="21600">
                <a:moveTo>
                  <a:pt x="0" y="0"/>
                </a:moveTo>
                <a:lnTo>
                  <a:pt x="67451" y="0"/>
                </a:lnTo>
                <a:lnTo>
                  <a:pt x="66051" y="1400"/>
                </a:lnTo>
                <a:lnTo>
                  <a:pt x="1400" y="1400"/>
                </a:lnTo>
                <a:close/>
              </a:path>
              <a:path fill="darken" w="67451" h="21600">
                <a:moveTo>
                  <a:pt x="67451" y="0"/>
                </a:moveTo>
                <a:lnTo>
                  <a:pt x="67451" y="21600"/>
                </a:lnTo>
                <a:lnTo>
                  <a:pt x="66051" y="20200"/>
                </a:lnTo>
                <a:lnTo>
                  <a:pt x="66051" y="1400"/>
                </a:lnTo>
                <a:close/>
              </a:path>
              <a:path fill="darkenLess" w="67451" h="21600">
                <a:moveTo>
                  <a:pt x="67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51" y="20200"/>
                </a:lnTo>
                <a:close/>
              </a:path>
              <a:path fill="lighten" w="67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51" h="21600">
                <a:moveTo>
                  <a:pt x="26719" y="3794"/>
                </a:moveTo>
                <a:lnTo>
                  <a:pt x="40732" y="10800"/>
                </a:lnTo>
                <a:lnTo>
                  <a:pt x="2671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724280"/>
            <a:ext cx="1828800" cy="60984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49" h="21600">
                <a:moveTo>
                  <a:pt x="25368" y="3794"/>
                </a:moveTo>
                <a:lnTo>
                  <a:pt x="39381" y="10800"/>
                </a:lnTo>
                <a:lnTo>
                  <a:pt x="25368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562720"/>
            <a:ext cx="914400" cy="76176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7120" y="579132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 10 лет, на выставке проходят конкурсы и лотере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endshow"/>
          </p:cNvPr>
          <p:cNvSpPr/>
          <p:nvPr/>
        </p:nvSpPr>
        <p:spPr>
          <a:xfrm>
            <a:off x="7086600" y="114300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ч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A4579-043E-4E2B-A960-7601873098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B170-62A7-4B59-A81A-8DAD57B49E9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онсоры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Mo-1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15200" cy="869760"/>
          </a:xfrm>
          <a:prstGeom prst="rect">
            <a:avLst/>
          </a:prstGeom>
          <a:ln w="0">
            <a:noFill/>
          </a:ln>
        </p:spPr>
      </p:pic>
      <p:pic>
        <p:nvPicPr>
          <p:cNvPr id="110" name="MICRO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2637000" cy="92700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endCxn id="110" idx="1"/>
          </p:cNvCxnSpPr>
          <p:nvPr/>
        </p:nvCxnSpPr>
        <p:spPr>
          <a:xfrm flipV="1">
            <a:off x="2743200" y="3967920"/>
            <a:ext cx="32011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2" name=""/>
          <p:cNvCxnSpPr>
            <a:stCxn id="109" idx="2"/>
          </p:cNvCxnSpPr>
          <p:nvPr/>
        </p:nvCxnSpPr>
        <p:spPr>
          <a:xfrm flipH="1">
            <a:off x="1599840" y="2088720"/>
            <a:ext cx="2820240" cy="1035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3" name=""/>
          <p:cNvCxnSpPr>
            <a:stCxn id="109" idx="2"/>
            <a:endCxn id="110" idx="0"/>
          </p:cNvCxnSpPr>
          <p:nvPr/>
        </p:nvCxnSpPr>
        <p:spPr>
          <a:xfrm>
            <a:off x="4419360" y="2089080"/>
            <a:ext cx="2843640" cy="14169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114" name="Stip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/>
          </p:cNvPr>
          <p:cNvSpPr/>
          <p:nvPr/>
        </p:nvSpPr>
        <p:spPr>
          <a:xfrm>
            <a:off x="3200400" y="2514600"/>
            <a:ext cx="2438280" cy="1219320"/>
          </a:xfrm>
          <a:prstGeom prst="wedgeEllipseCallout">
            <a:avLst>
              <a:gd name="adj1" fmla="val -70180"/>
              <a:gd name="adj2" fmla="val 70050"/>
            </a:avLst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Зайдите на наш сай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419720"/>
            <a:ext cx="2057400" cy="1523880"/>
          </a:xfrm>
          <a:custGeom>
            <a:avLst/>
            <a:gdLst>
              <a:gd name="textAreaLeft" fmla="*/ 590400 w 2057400"/>
              <a:gd name="textAreaRight" fmla="*/ 1762200 w 2057400"/>
              <a:gd name="textAreaTop" fmla="*/ 877680 h 1523880"/>
              <a:gd name="textAreaBottom" fmla="*/ 13053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029200"/>
            <a:ext cx="5257800" cy="99072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ешите, скидки весь меся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1055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Arial"/>
              </a:rPr>
              <a:t>BMW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imgl45829bmw_xcoupe1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3855960"/>
          </a:xfrm>
          <a:prstGeom prst="rect">
            <a:avLst/>
          </a:prstGeom>
          <a:ln w="76320">
            <a:solidFill>
              <a:srgbClr val="00ffff"/>
            </a:solidFill>
            <a:prstDash val="sysDot"/>
            <a:miter/>
          </a:ln>
        </p:spPr>
      </p:pic>
      <p:sp>
        <p:nvSpPr>
          <p:cNvPr id="121" name=""/>
          <p:cNvSpPr/>
          <p:nvPr/>
        </p:nvSpPr>
        <p:spPr>
          <a:xfrm>
            <a:off x="1451160" y="5305320"/>
            <a:ext cx="650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ый экстравагантный автомобиль салон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язательно прикоснитесь к нему, только здес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ая презентация этой маши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143000"/>
            <a:ext cx="1219320" cy="106668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077320" y="548640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23EB9-86E5-4B80-A720-2C61C994AC6E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03F1-9692-429E-8ED6-F24D4246950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cc"/>
                </a:solidFill>
                <a:latin typeface="Arial"/>
              </a:rPr>
              <a:t>Audi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7" name="imgz50793infinitiFX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172200" cy="3963960"/>
          </a:xfrm>
          <a:prstGeom prst="rect">
            <a:avLst/>
          </a:prstGeom>
          <a:ln w="76320">
            <a:solidFill>
              <a:srgbClr val="0099cc"/>
            </a:solidFill>
            <a:prstDash val="sysDot"/>
            <a:miter/>
          </a:ln>
        </p:spPr>
      </p:pic>
      <p:sp>
        <p:nvSpPr>
          <p:cNvPr id="128" name=""/>
          <p:cNvSpPr/>
          <p:nvPr/>
        </p:nvSpPr>
        <p:spPr>
          <a:xfrm>
            <a:off x="74674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Colsl_6" descr=""/>
          <p:cNvPicPr/>
          <p:nvPr/>
        </p:nvPicPr>
        <p:blipFill>
          <a:blip r:embed="rId2"/>
          <a:stretch/>
        </p:blipFill>
        <p:spPr>
          <a:xfrm>
            <a:off x="6858000" y="1447920"/>
            <a:ext cx="2133720" cy="998280"/>
          </a:xfrm>
          <a:prstGeom prst="rect">
            <a:avLst/>
          </a:prstGeom>
          <a:ln w="0">
            <a:noFill/>
          </a:ln>
        </p:spPr>
      </p:pic>
      <p:pic>
        <p:nvPicPr>
          <p:cNvPr id="130" name="Colsl_7" descr=""/>
          <p:cNvPicPr/>
          <p:nvPr/>
        </p:nvPicPr>
        <p:blipFill>
          <a:blip r:embed="rId3"/>
          <a:stretch/>
        </p:blipFill>
        <p:spPr>
          <a:xfrm>
            <a:off x="6858000" y="2590920"/>
            <a:ext cx="2133720" cy="1109520"/>
          </a:xfrm>
          <a:prstGeom prst="rect">
            <a:avLst/>
          </a:prstGeom>
          <a:ln w="0">
            <a:noFill/>
          </a:ln>
        </p:spPr>
      </p:pic>
      <p:pic>
        <p:nvPicPr>
          <p:cNvPr id="131" name="Colsl_4" descr=""/>
          <p:cNvPicPr/>
          <p:nvPr/>
        </p:nvPicPr>
        <p:blipFill>
          <a:blip r:embed="rId4"/>
          <a:stretch/>
        </p:blipFill>
        <p:spPr>
          <a:xfrm>
            <a:off x="6858000" y="3809880"/>
            <a:ext cx="2114640" cy="12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73FF-7B47-4A11-8853-C8EE66B5EF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99ff"/>
                </a:solidFill>
                <a:latin typeface="Arial"/>
              </a:rPr>
              <a:t>Volkswagen</a:t>
            </a:r>
            <a:br>
              <a:rPr sz="7200"/>
            </a:b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Aac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2412720"/>
          </a:xfrm>
          <a:prstGeom prst="rect">
            <a:avLst/>
          </a:prstGeom>
          <a:ln w="0">
            <a:noFill/>
          </a:ln>
        </p:spPr>
      </p:pic>
      <p:pic>
        <p:nvPicPr>
          <p:cNvPr id="136" name="Conceptd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Conceptw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5410080" cy="1754280"/>
          </a:xfrm>
          <a:prstGeom prst="rect">
            <a:avLst/>
          </a:prstGeom>
          <a:ln w="0">
            <a:noFill/>
          </a:ln>
        </p:spPr>
      </p:pic>
      <p:pic>
        <p:nvPicPr>
          <p:cNvPr id="138" name="Concep2" descr=""/>
          <p:cNvPicPr/>
          <p:nvPr/>
        </p:nvPicPr>
        <p:blipFill>
          <a:blip r:embed="rId4"/>
          <a:stretch/>
        </p:blipFill>
        <p:spPr>
          <a:xfrm>
            <a:off x="4419720" y="14479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43800" y="22096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3794" y="8213"/>
                </a:moveTo>
                <a:lnTo>
                  <a:pt x="7301" y="8213"/>
                </a:lnTo>
                <a:lnTo>
                  <a:pt x="7301" y="13549"/>
                </a:lnTo>
                <a:cubicBezTo>
                  <a:pt x="7301" y="14471"/>
                  <a:pt x="8102" y="15203"/>
                  <a:pt x="9138" y="15203"/>
                </a:cubicBezTo>
                <a:lnTo>
                  <a:pt x="10800" y="15203"/>
                </a:lnTo>
                <a:cubicBezTo>
                  <a:pt x="11836" y="15203"/>
                  <a:pt x="12636" y="14471"/>
                  <a:pt x="12636" y="13549"/>
                </a:cubicBezTo>
                <a:lnTo>
                  <a:pt x="12636" y="8213"/>
                </a:lnTo>
                <a:lnTo>
                  <a:pt x="10800" y="8213"/>
                </a:lnTo>
                <a:lnTo>
                  <a:pt x="14308" y="4706"/>
                </a:lnTo>
                <a:lnTo>
                  <a:pt x="17981" y="8213"/>
                </a:lnTo>
                <a:lnTo>
                  <a:pt x="16144" y="8213"/>
                </a:lnTo>
                <a:lnTo>
                  <a:pt x="16144" y="13549"/>
                </a:lnTo>
                <a:cubicBezTo>
                  <a:pt x="16144" y="16317"/>
                  <a:pt x="13568" y="18876"/>
                  <a:pt x="10800" y="18876"/>
                </a:cubicBezTo>
                <a:lnTo>
                  <a:pt x="9138" y="18876"/>
                </a:lnTo>
                <a:cubicBezTo>
                  <a:pt x="6370" y="18876"/>
                  <a:pt x="3794" y="16317"/>
                  <a:pt x="3794" y="13549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304920"/>
            <a:ext cx="7925040" cy="1218960"/>
          </a:xfrm>
          <a:custGeom>
            <a:avLst/>
            <a:gdLst>
              <a:gd name="textAreaLeft" fmla="*/ 1981080 w 7925040"/>
              <a:gd name="textAreaRight" fmla="*/ 5943960 w 7925040"/>
              <a:gd name="textAreaTop" fmla="*/ 36000 h 1218960"/>
              <a:gd name="textAreaBottom" fmla="*/ 9144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аблица цен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09680" y="1523880"/>
          <a:ext cx="487692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487692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510080" y="3424320"/>
            <a:ext cx="123840" cy="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38080" y="4724280"/>
          <a:ext cx="7620120" cy="1584360"/>
        </p:xfrm>
        <a:graphic>
          <a:graphicData uri="http://schemas.openxmlformats.org/drawingml/2006/table">
            <a:tbl>
              <a:tblPr/>
              <a:tblGrid>
                <a:gridCol w="2590920"/>
                <a:gridCol w="1219320"/>
                <a:gridCol w="1904760"/>
                <a:gridCol w="190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m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дорожь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D0E4E-9CBC-456A-BFCE-E47AAC3B7B5F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20:49Z</dcterms:created>
  <dc:creator>Фарид</dc:creator>
  <dc:description/>
  <dc:language>en-US</dc:language>
  <cp:lastModifiedBy>TVS</cp:lastModifiedBy>
  <dcterms:modified xsi:type="dcterms:W3CDTF">2003-04-08T09:59:18Z</dcterms:modified>
  <cp:revision>13</cp:revision>
  <dc:subject/>
  <dc:title>Автосалон  «Белые ночи 2002»</dc:title>
</cp:coreProperties>
</file>